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EE43-C75A-4D67-9A21-181A4AAE3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1C66-AC07-46AF-95AB-3920EC1FA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D6E9C-6814-4EF0-ABFE-7A3E751DE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221D6-280A-45B9-9D0B-D25FF955F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70E65-385E-435C-A780-35113A61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E367-B17D-4866-8CA8-A103A865D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3017-73B6-437E-8E00-733E2944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F690-8A67-4C69-A42B-45AEEDD1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99435-CC2B-42EC-9D7B-1A23A147D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F6B5-CADB-40C7-B7FD-5466FBCE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B136-F344-4640-8246-D962AEAC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C5D77-4C4F-409E-A340-B1BBB4198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65B8-D460-4A4D-B953-EC3FFFF15B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8"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10:58Z</dcterms:modified>
  <cp:revision>4</cp:revision>
  <dc:subject/>
  <dc:title/>
</cp:coreProperties>
</file>