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9AB6B-F45A-4064-920B-C93B105ED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4C08-EAC1-4E3D-8727-C4212D815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78BD2-AB4E-4BA8-ADD5-8AE9DDC8F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95075-B4B3-4192-9ACC-33FEF61F2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797A6-59BB-4AC8-9444-02A5769C6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EF76-9338-4608-B5FC-086B91CD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EA30-21BB-4207-8E9C-734F90AC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D9A47-2DCF-40E7-A110-65970F0E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85A2-0CF0-431E-924D-DCA75D0DF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6E61-49CF-4C57-A62B-BF8A9961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EFEE-05B8-48D2-88A9-E2266B3B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76AB-276D-4286-A260-14879BAA8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EEF6-05B4-4A61-96ED-AD5907D60B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9"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9:57Z</dcterms:modified>
  <cp:revision>7</cp:revision>
  <dc:subject/>
  <dc:title/>
</cp:coreProperties>
</file>