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8443-0678-41C9-84A0-8BCE1EB5F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65AA4-9EF0-4CCD-AFB5-90B14B07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4F609-567A-4373-AF28-250F12ADC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9A060-65D8-4C9B-95CC-EA3154376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F9C5-2188-4726-93BA-F9213AAF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0C25-5E80-4047-AC6B-D7534A27E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D6F4-67D6-4F7D-B141-F0B977298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AA8B-4739-441D-8765-63BD372E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29F2-EC2A-4FE1-86A3-2B54C4C1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2F97-7BB0-494A-860D-F22B7FFD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4AFB-C8F5-4A9E-84F1-640F764C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4008-B703-4E42-BDDB-47523525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B16B-D3F4-4AD6-AEDC-28F87E27E9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1"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10:26Z</dcterms:modified>
  <cp:revision>8</cp:revision>
  <dc:subject/>
  <dc:title/>
</cp:coreProperties>
</file>